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B69-E99D-4205-BD61-A86E3217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982-0E54-49BE-AAE4-A5BC5BDC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6E1-EC91-4AD5-A025-93B79F49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517-78EC-44DB-88CE-AB53012B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D44-63B5-45FA-96A8-0A283DC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4B1-61E7-472B-978B-4EB33EB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ED1-5706-4A63-B56E-82C61DE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139-94F0-4FBA-8D73-5CAC331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EFC-9421-4D0F-896A-08D28735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448-6176-439E-AFDF-5CC2E2D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F10-C4A1-4743-8200-1CBB653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012-FFC5-4632-ADA4-F4A48BD1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B49-A9A0-44FF-B795-2B57F2239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www.soundout.org/images/ladder2006.gif"/>
          <p:cNvPicPr/>
          <p:nvPr/>
        </p:nvPicPr>
        <p:blipFill>
          <a:blip r:embed="rId1"/>
          <a:stretch/>
        </p:blipFill>
        <p:spPr>
          <a:xfrm>
            <a:off x="228600" y="380880"/>
            <a:ext cx="633096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4:45:40Z</dcterms:created>
  <dc:creator>109ganskes</dc:creator>
  <dc:description/>
  <dc:language>en-US</dc:language>
  <cp:lastModifiedBy>109ganskes</cp:lastModifiedBy>
  <dcterms:modified xsi:type="dcterms:W3CDTF">2010-06-02T19:09:49Z</dcterms:modified>
  <cp:revision>1</cp:revision>
  <dc:subject/>
  <dc:title>Slide 1</dc:title>
</cp:coreProperties>
</file>